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A76-2C64-4929-91A9-D7E839B1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38E-81AA-4823-BDDE-C0F37BEB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A48E-3795-4970-A3DC-94BBBF13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CBE-DB45-48E2-B2F7-1FBA88BB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4ABD-8E23-4851-991C-67AB0EDD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D1B-3CC1-4051-8A59-1AE1E70B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F1A3-2DDE-4BFE-8B7B-CCAF94EF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43A-E543-4116-AC67-93946A0B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E3D-B13B-4056-BFD5-948799B5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762-5B8C-47ED-A962-FFC4F8F1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28B-F3AB-49FC-9F6C-36473674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E50-33BF-4984-8537-A71DA58C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7FBD-BB61-4B8D-9625-23B4BA414D8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8713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2873520" y="1052640"/>
            <a:ext cx="6019560" cy="58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198440" y="2924280"/>
            <a:ext cx="7694640" cy="596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17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رفة أحوالهم وما يناس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33"/>
          <a:stretch/>
        </p:blipFill>
        <p:spPr>
          <a:xfrm>
            <a:off x="324000" y="2276640"/>
            <a:ext cx="85341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7465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1041480"/>
            <a:ext cx="882972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42160" cy="44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79280" y="934920"/>
            <a:ext cx="881712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39528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530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عاء إلى الله بآياته والدعاء إلى حجج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جهدون أنفسهم في عداوتك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1979640" y="155736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 كفائ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واجب كفائي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ذا قام به من يكفي سقط الإثم عن الباق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ب أن تكون الدعوة إ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بصيرة و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نبغي للداع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رفة أحوال المدعوين وما يناس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عاقبة بالمثل دون تجاوز للضوابط الشرع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فضل من المعاقبة بالمث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بر والاحتساب والعفو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ية الله تعالى ثابتة لأه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 و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معية الله تعالى لأهل التقوى والإحس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ية نصر وتأي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مربع نص 1"/>
          <p:cNvSpPr/>
          <p:nvPr/>
        </p:nvSpPr>
        <p:spPr>
          <a:xfrm>
            <a:off x="250920" y="1700280"/>
            <a:ext cx="86295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حك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وعظة الح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جادلة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3597120" y="907920"/>
            <a:ext cx="528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5240" cy="1152720"/>
          </a:xfrm>
          <a:prstGeom prst="rect">
            <a:avLst/>
          </a:prstGeom>
          <a:ln w="0">
            <a:noFill/>
          </a:ln>
        </p:spPr>
      </p:pic>
      <p:sp>
        <p:nvSpPr>
          <p:cNvPr id="73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31:57Z</dcterms:modified>
  <cp:revision>1955</cp:revision>
  <dc:subject/>
  <dc:title>عرض تقديمي في PowerPoint</dc:title>
</cp:coreProperties>
</file>